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E79-07A2-472D-87ED-2D7227A4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D23-C4E5-4BD7-8FEA-6A8DA2EA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96D-6879-4E82-A480-42C3C086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E7B-3FBA-46F4-90D5-513CD573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9167-8730-4E88-A0B6-EE7F323B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E13B-91D5-4B06-879E-847101F5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5F8A-8E85-4723-94D7-DCCEEBA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041B-06BD-48EE-AAC6-AB4FF1C1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9C02-B8D9-4B9E-B5A4-FDB52B2F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4A53-1D81-49D3-9D0A-B23664BA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A411-EAF1-4142-A35E-A713C55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45E-4830-4C8A-8AFC-5A1BDD00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0C25-C5E6-4CBA-B9A3-B51A208B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60AD-BA23-4C49-8FB2-CD30937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B38C-9CA9-4F85-BB31-C20BDC40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EEE8-FA05-4ABF-A0B5-6ADF7775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7E33-2357-482A-AED3-998CFB34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D57-4EE2-4151-B1F2-EA60DF59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BE6-AED7-44D5-9617-1F7DD2C3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867-81E8-4E72-814B-7C2BC43D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D02-227D-4857-87E2-B8863DEF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301-4D58-4946-ADED-7E6FE96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7AB-C206-4D0E-849C-16A21A9C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46F-2220-43AA-A4C1-1D16B5E5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0515-268A-4F2A-AB48-814FB6C87E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979F-BF2E-4CBD-935F-A199C2427B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derstanding Postwar Tens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erican Studies – Chapter 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during Racial and Religious Ten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 Section 6 an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five causes and three effects of tension discussed in this se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cco &amp; Vanzet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 Section 1 an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rite three important facts about the c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 – Sacco and Vanzetti left the U.S. during WW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ich two things should most influence the clemency hear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ditional Fa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c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al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9 years 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a g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d in labor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 U.S. during WW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rch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nzet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al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2 years 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a g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d in labor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 U.S. during WW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rch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ding Not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2 Emerging Economic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3 Rising Labor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4 Growing Political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5 Increasing Social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st three causes and three effects for each tension listed in each S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26.2 Emerging Economic Ten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use 1 = The federal government cancelled wartime contra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ffect 1 = Hundreds of factories clos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9599" r="0" b="0"/>
          <a:stretch/>
        </p:blipFill>
        <p:spPr>
          <a:xfrm>
            <a:off x="-1523880" y="0"/>
            <a:ext cx="121917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5:09:41Z</dcterms:created>
  <dc:creator> </dc:creator>
  <dc:description/>
  <dc:language>en-US</dc:language>
  <cp:lastModifiedBy>School District U46</cp:lastModifiedBy>
  <dcterms:modified xsi:type="dcterms:W3CDTF">2008-01-22T15:11:16Z</dcterms:modified>
  <cp:revision>6</cp:revision>
  <dc:subject/>
  <dc:title>Understanding Postwar Tensions</dc:title>
</cp:coreProperties>
</file>